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C32-2CE5-490D-A766-62A49F4D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F78-FC44-4B3E-B3FA-005B0B8E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3C8-ACB4-402F-AED0-213B95E6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939-FFFF-4946-8823-E393AF70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E5E-EF0E-4E73-9398-16251842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901-93B7-414C-A3E1-352FD9B0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B14-9C27-47B2-BBC4-3D5F1B7D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E03-9B87-4375-A1D7-F5FC6858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D93-72AA-4C02-A87A-735A2D87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503-F129-4C6B-BB8F-DC50877E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76F-9C99-464A-8B09-60EBD9EB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54A-6C3D-4903-A119-B0E94FF7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74A1-9E9F-4E86-8342-E8832668B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 est l’artiste? (2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sme, dadaïsme, surréalis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asso, Dalí, Braques, Chagall, Magritte, Du Champ, Lé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236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5000" y="2361960"/>
            <a:ext cx="2362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237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9339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933960" cy="5607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1680" y="456840"/>
            <a:ext cx="2362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50976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172200" cy="6172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760" y="2133720"/>
            <a:ext cx="236196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197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48160" y="2285640"/>
            <a:ext cx="23619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197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040" y="251460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Ch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430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6643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1680" y="2742840"/>
            <a:ext cx="2362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6643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73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81480" y="2133720"/>
            <a:ext cx="236232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73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22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48160" y="761760"/>
            <a:ext cx="1904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22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692280"/>
            <a:ext cx="800100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2361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0866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16000" t="0" r="16000" b="0"/>
          <a:stretch/>
        </p:blipFill>
        <p:spPr>
          <a:xfrm>
            <a:off x="0" y="0"/>
            <a:ext cx="693432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6000" t="0" r="16000" b="0"/>
          <a:stretch/>
        </p:blipFill>
        <p:spPr>
          <a:xfrm>
            <a:off x="0" y="0"/>
            <a:ext cx="6934320" cy="6797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48160" y="2285640"/>
            <a:ext cx="23619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72200" y="2590920"/>
            <a:ext cx="236232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430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1047600"/>
            <a:ext cx="76201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1047600"/>
            <a:ext cx="7620120" cy="5810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81280" y="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914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914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071720"/>
            <a:ext cx="624852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Ch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95280" y="1071720"/>
            <a:ext cx="624852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51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48160" y="2285640"/>
            <a:ext cx="23619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51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70866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0" y="24382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70866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6100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4557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4360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4557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192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3760" y="243828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Ch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192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01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2361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01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1335240"/>
            <a:ext cx="693396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1335240"/>
            <a:ext cx="693396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201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00400" y="1522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201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0" y="24382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6100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19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90960" y="53316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19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3760" y="243828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Ch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4579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24480" y="1676160"/>
            <a:ext cx="2362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4579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001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9880" y="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001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70866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81680" y="18288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70866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23720"/>
            <a:ext cx="815328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753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19560" y="76176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753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796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9880" y="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796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4737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5880" y="761760"/>
            <a:ext cx="2362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4737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44816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19560" y="76176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44816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930240"/>
            <a:ext cx="807732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1280" y="-360"/>
            <a:ext cx="2362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930240"/>
            <a:ext cx="807732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23720"/>
            <a:ext cx="8153280" cy="6132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62360" y="533520"/>
            <a:ext cx="236196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4674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4360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4674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0400" y="1522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4575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94360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4575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532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638680" y="1371240"/>
            <a:ext cx="2362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532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0" t="0" r="0" b="10667"/>
          <a:stretch/>
        </p:blipFill>
        <p:spPr>
          <a:xfrm>
            <a:off x="609480" y="228600"/>
            <a:ext cx="50230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19560" y="190476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10667"/>
          <a:stretch/>
        </p:blipFill>
        <p:spPr>
          <a:xfrm>
            <a:off x="609480" y="228600"/>
            <a:ext cx="50230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197000"/>
            <a:ext cx="80773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41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5000" y="2361960"/>
            <a:ext cx="2362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41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1280" y="-360"/>
            <a:ext cx="2362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197000"/>
            <a:ext cx="80773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9:17:29Z</dcterms:created>
  <dc:creator>Administrator</dc:creator>
  <dc:description/>
  <dc:language>en-US</dc:language>
  <cp:lastModifiedBy>Administrator</cp:lastModifiedBy>
  <dcterms:modified xsi:type="dcterms:W3CDTF">2011-06-02T20:23:18Z</dcterms:modified>
  <cp:revision>14</cp:revision>
  <dc:subject/>
  <dc:title>Qui est l’artiste? (2)</dc:title>
</cp:coreProperties>
</file>